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8F3-C032-464B-B9D4-414C5955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9C9-448A-4C2C-BBD8-55A5CFD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459-5F9D-4916-AF15-B4410A00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4E9-6552-4F0A-A44E-8B03BE5D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D06-15B1-4BB5-A6A1-B23602F7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4A3-342F-49EE-B51A-252A04BB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61D-C1E3-40A2-88EC-E8F05CB4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A42-9FFD-4126-B00D-D1E545F5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132-80A4-4D6B-8745-D02503D7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9EC-9539-47DB-A898-4B41224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9E5-F853-4AAF-9228-3C3AE13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F29-C7AF-43E7-B4A3-7840BFA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C418-8369-46C8-A310-5B96AB9BC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rave little to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Coley Col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blt.jpg"/>
          <p:cNvPicPr/>
          <p:nvPr/>
        </p:nvPicPr>
        <p:blipFill>
          <a:blip r:embed="rId1"/>
          <a:stretch/>
        </p:blipFill>
        <p:spPr>
          <a:xfrm>
            <a:off x="465120" y="1911240"/>
            <a:ext cx="4022640" cy="390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as a brave little to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ent on a h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brave-little-toaster.jpg"/>
          <p:cNvPicPr/>
          <p:nvPr/>
        </p:nvPicPr>
        <p:blipFill>
          <a:blip r:embed="rId1"/>
          <a:stretch/>
        </p:blipFill>
        <p:spPr>
          <a:xfrm>
            <a:off x="1047600" y="27925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got chased by a bad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angrytoaster.jpg"/>
          <p:cNvPicPr/>
          <p:nvPr/>
        </p:nvPicPr>
        <p:blipFill>
          <a:blip r:embed="rId1"/>
          <a:stretch/>
        </p:blipFill>
        <p:spPr>
          <a:xfrm>
            <a:off x="457200" y="2336760"/>
            <a:ext cx="4038480" cy="3052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aster learned it was a trick by blan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lampo.jpg"/>
          <p:cNvPicPr/>
          <p:nvPr/>
        </p:nvPicPr>
        <p:blipFill>
          <a:blip r:embed="rId1"/>
          <a:stretch/>
        </p:blipFill>
        <p:spPr>
          <a:xfrm>
            <a:off x="914400" y="2286000"/>
            <a:ext cx="3124080" cy="275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made a plan with l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tapferekleinetoaster01.jpg"/>
          <p:cNvPicPr/>
          <p:nvPr/>
        </p:nvPicPr>
        <p:blipFill>
          <a:blip r:embed="rId1"/>
          <a:stretch/>
        </p:blipFill>
        <p:spPr>
          <a:xfrm>
            <a:off x="533520" y="2057400"/>
            <a:ext cx="3200400" cy="2819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as going to trick blanket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vacu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ey took him to the cany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ess with h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anyon.jpg"/>
          <p:cNvPicPr/>
          <p:nvPr/>
        </p:nvPicPr>
        <p:blipFill>
          <a:blip r:embed="rId1"/>
          <a:stretch/>
        </p:blipFill>
        <p:spPr>
          <a:xfrm>
            <a:off x="5357880" y="2362320"/>
            <a:ext cx="2619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a funny j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l laugh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y were all friends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aww.jpg"/>
          <p:cNvPicPr/>
          <p:nvPr/>
        </p:nvPicPr>
        <p:blipFill>
          <a:blip r:embed="rId1"/>
          <a:stretch/>
        </p:blipFill>
        <p:spPr>
          <a:xfrm>
            <a:off x="0" y="1828800"/>
            <a:ext cx="46101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7:24Z</dcterms:created>
  <dc:creator>itsuser</dc:creator>
  <dc:description/>
  <dc:language>en-US</dc:language>
  <cp:lastModifiedBy>itsuser</cp:lastModifiedBy>
  <dcterms:modified xsi:type="dcterms:W3CDTF">2009-03-05T18:31:14Z</dcterms:modified>
  <cp:revision>4</cp:revision>
  <dc:subject/>
  <dc:title>The brave little toaster</dc:title>
</cp:coreProperties>
</file>